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5238-96A5-404E-BA06-E9E399F1E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9046-A049-4125-95D6-8B884CB5D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A518-7F19-4FB9-8D3A-6B90110EE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A6FD-A359-49CD-BF07-D62E1140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83E6-49D7-4C98-A9CB-23E3729F8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06F2-5D93-4852-AB5F-8AB07C9A2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080A-CC05-4542-9EFD-3D8EE180A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454-9737-4FFF-B427-71C4718F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974-8477-438F-9C62-007C99D2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FC0-D345-4418-9345-E336B4DE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037-D054-4A24-96E4-E6E6052E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B744-C416-4DBF-B4EF-1714FFC6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5E94-EBBA-4211-8CDA-5BF3D484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C729-47AB-48D7-B532-A8B31CD0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60FA-19BC-4F5C-B646-1DADD245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367A-33CD-4D8E-ABDB-F89DF737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5E1C-6232-4A39-BA62-0D3189D3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66AB-9414-4DD8-B6A8-B85E5AED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7EF-EB0F-427A-9F5F-F9652868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89B6-8F7F-405C-B1A7-778B565D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A292-6A07-4277-B324-C5A7C63B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C127-C759-4136-A0D3-1A09D9DD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2B71-C3BA-4905-95E6-7C3B26D6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CFC2-7DCA-4B87-B63A-6FEFB22F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624-EA3E-444C-8855-DF203220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EB1-F2AE-4947-B31C-8AC16AFF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302-5B47-4F76-9126-CDF17E1D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AA6-AA3F-4472-884C-723AC1C8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89C-F3C4-4E98-A502-0FC2E75E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6F9-69C8-4DF4-B6C5-A0DC63C7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7DE-9068-4D91-9B44-F230C123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2640" y="-4680"/>
                <a:ext cx="979560" cy="68317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6831720"/>
                  <a:gd name="textAreaBottom" fmla="*/ 6832080 h 683172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8320" y="16970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63000" y="1283760"/>
                <a:ext cx="979560" cy="50292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63000" y="148320"/>
                <a:ext cx="979560" cy="302760"/>
              </a:xfrm>
              <a:custGeom>
                <a:avLst/>
                <a:gdLst>
                  <a:gd name="textAreaLeft" fmla="*/ -360 w 979560"/>
                  <a:gd name="textAreaRight" fmla="*/ 979560 w 97956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8320" y="989640"/>
                <a:ext cx="979920" cy="348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0120" y="680400"/>
                <a:ext cx="979920" cy="4327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1560" y="372600"/>
                <a:ext cx="992160" cy="37548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5720" y="393372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0400" y="3536640"/>
                <a:ext cx="979920" cy="500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0400" y="2397600"/>
                <a:ext cx="979920" cy="30420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0400" y="3231000"/>
                <a:ext cx="979920" cy="34704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0400" y="2931480"/>
                <a:ext cx="979920" cy="42768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0400" y="261648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6200"/>
                <a:ext cx="979920" cy="4993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3640" y="4552200"/>
                <a:ext cx="979920" cy="5029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5720" y="5659560"/>
                <a:ext cx="979920" cy="30276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9840"/>
                <a:ext cx="345960" cy="98100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4520"/>
                <a:ext cx="979920" cy="429120"/>
              </a:xfrm>
              <a:custGeom>
                <a:avLst/>
                <a:gdLst>
                  <a:gd name="textAreaLeft" fmla="*/ 360 w 979920"/>
                  <a:gd name="textAreaRight" fmla="*/ 980640 w 97992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84920"/>
                <a:ext cx="992160" cy="375840"/>
              </a:xfrm>
              <a:custGeom>
                <a:avLst/>
                <a:gdLst>
                  <a:gd name="textAreaLeft" fmla="*/ 360 w 992160"/>
                  <a:gd name="textAreaRight" fmla="*/ 992880 w 99216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124F-79A8-400A-BBE2-906FFC57E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532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35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740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740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3F1D-4B7E-46AA-BA27-6CD7A3557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Byzantine Empire 1000-1100"/>
          <p:cNvPicPr/>
          <p:nvPr/>
        </p:nvPicPr>
        <p:blipFill>
          <a:blip r:embed="rId1"/>
          <a:stretch/>
        </p:blipFill>
        <p:spPr>
          <a:xfrm>
            <a:off x="5562720" y="304920"/>
            <a:ext cx="3200400" cy="2363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Byzantine Empi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se, Achievements, Decline, and Demise of The Byzantine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New Rome in a New Set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68544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 Roman Empire crumbled in 5th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un by invading Germanic t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ing a threat to the empir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peror Constant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builds the old port city of 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ed the c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tantino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ade it capital of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to be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result, an eastern empire gradually came into 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nd West official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D 3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this, eastern successors see themselves as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man Empero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anking Byzantine nobleman succeeds his uncle to the t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-360"/>
            <a:ext cx="830592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nian co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t histori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opi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cribes Justinian in two ligh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99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Firs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9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cc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9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cc"/>
                </a:solidFill>
                <a:latin typeface="Arial"/>
              </a:rPr>
              <a:t>Even-temp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99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cc"/>
                </a:solidFill>
                <a:latin typeface="Arial"/>
              </a:rPr>
              <a:t>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description (from “Secret History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Deceitful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 Two-fa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Devious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 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_____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 Skilled in dissembling his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Hypocritical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- Never moved to tears by joy or p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33, Justinian sends best gener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cover North Africa from the Vand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this in a few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years later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izes it from the Ostrogo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the next 16 years, Rome changes hands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inian’s armies w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is territorial power allowed Justinian to give himself the title of new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Ce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uilding the ____________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zantine emperors ruled with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d the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tics were brutal, not spiri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d under constant risk of 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8 Byzantine empe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die viol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abandon throne and live in monas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990720" y="35053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stern Roman empire had its own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w spoke Latin, most spoke 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longed to the 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nian and panel of ten legal experts combine 400 years of Roman law and legal opinions to form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de up of four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d nearly 5000 Roman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ted and summarized Rome’s greatest legal thin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 that told law students how to use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(New Laws)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legislation passed after 5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de served the Byzantine empire for over 9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the Imperial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inian launches most ambitious building program ever seen in the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uilt the massive fortifications surrounding the city (pg 3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was Justinian’s greatest pa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_____________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splendid church in the Christian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ch mosaics in the light of thousands of candles and l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uty helped convince Russians that their country should adopt Byzantine Christia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arts of the building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larged palace, baths, aqueducts, law courts, schools,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ustinian Co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-360"/>
            <a:ext cx="830592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inople’s hectic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street through Constantinople called ________________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hant stalls lined main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ppers could buy products from England, France, Spain, Africa, Russia, India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ings include tin, wine, cork, ivory, gold, fur, honey, timber, spices, silk, food st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ians and acrobat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 (60,000 specta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d chariot races and circus 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s of different teams formed 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2, Blues and Greens spark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sarius slaughters 30,000 re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s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inian’s steely advisor; ___________________________; major political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5 they married; she was the 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with foreign envoys, wrote foreign leaders, passed laws, built chu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0:26:24Z</dcterms:created>
  <dc:creator>System Administrator</dc:creator>
  <dc:description/>
  <dc:language>en-US</dc:language>
  <cp:lastModifiedBy>admin</cp:lastModifiedBy>
  <dcterms:modified xsi:type="dcterms:W3CDTF">2010-11-30T16:16:49Z</dcterms:modified>
  <cp:revision>53</cp:revision>
  <dc:subject/>
  <dc:title>The Byzantine Empire</dc:title>
</cp:coreProperties>
</file>